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371D-E49B-42BA-97D9-2A2AEAC7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E979-0A3B-4A98-96A5-5779BC9F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A1B-35CC-4C06-BC36-BD923307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49A-B4DD-4094-9418-C5A4C4C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BBF-F8CD-4789-8F5E-184AEA9F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74F-7353-42B6-9701-6AD10091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096-9A89-483F-8210-531CF684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16A-DB01-42B1-B0A2-62920CE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B33-E0A6-4989-9788-44938E09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4E9-F973-4915-BC62-E4DD1A04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22D-508F-432A-A9A8-7E4606E8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8DC-06F9-48EF-A873-24F263B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08C-12D4-4D0C-B2F8-EBB1327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D44-94FA-4BD5-A8FE-5B8B89B5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85DA-8E54-406C-9173-088AB6C87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21932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mah Od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smah ode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 ¿cómo estas?  ¿Qué hac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439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iffa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Asmah Ode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vivo en New York C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atorce añ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uatro hermanos.yo amo la musi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645080"/>
            <a:ext cx="50472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95320" y="464508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istain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i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3"/>
          <a:stretch/>
        </p:blipFill>
        <p:spPr>
          <a:xfrm>
            <a:off x="133200" y="555948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192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4"/>
          <a:stretch/>
        </p:blipFill>
        <p:spPr>
          <a:xfrm>
            <a:off x="2114640" y="2530440"/>
            <a:ext cx="463320" cy="86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5"/>
          <a:stretch/>
        </p:blipFill>
        <p:spPr>
          <a:xfrm>
            <a:off x="2189160" y="3273480"/>
            <a:ext cx="420840" cy="82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3822840"/>
            <a:ext cx="463320" cy="86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4724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 yo puedo bailar. Mis hermanas y yo somos excelentes bailarinas.  ¿dónde cenamos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bailar. ¿Puedes  tú baila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127240" y="4492800"/>
            <a:ext cx="46980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ien ¿Y tú? Hablamos  contigo. ¿Qué quieres hacer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Donde están tus hermanas?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94440"/>
            <a:ext cx="463680" cy="865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as están con nuestros padres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1974960" y="6016680"/>
            <a:ext cx="46980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2"/>
          <p:cNvSpPr/>
          <p:nvPr/>
        </p:nvSpPr>
        <p:spPr>
          <a:xfrm>
            <a:off x="779040" y="60199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l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30:43Z</dcterms:modified>
  <cp:revision>114</cp:revision>
  <dc:subject/>
  <dc:title>Profile</dc:title>
</cp:coreProperties>
</file>